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681D-9C10-49C1-9452-3107E73D3C04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5D8-B5B8-491D-AAD7-12ACF5C44A9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3E4B-30EA-425D-AE29-253412D2469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750B-5226-427A-B83C-928E4832E5B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3BE-C18C-4AD9-8FEC-0529C66EAACF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BDD-EBD9-47AF-B1AA-3EDBCE57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AF1-F30A-4008-A2B6-A7820E3C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6A3-8BE9-46ED-B2C1-27EAF5D4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84D-7B94-48F9-B5A3-47EDE81B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179-7578-4D47-A76D-47AEA4AA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4D2-CC00-4380-A858-9177A705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B82-9054-4E35-BD7D-DE28B8F4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F5F0-9D82-43DD-AEE6-CA94501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389A-A800-41A9-8B97-A5786505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C9B5-A1A5-454C-9A5B-B2F0A8B7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175-8AFA-49E5-A62B-32A85B3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567-590F-4585-B998-21813DF7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1EF4-25FF-4CD8-BC69-F8BA36D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455-5744-4DF1-BF9C-373C483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9A00-0AC4-4742-B789-995FC42E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F24-A3DF-45A9-9A49-E21AC37A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22B-AE65-4130-9870-9D91BC10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DE5-91BB-4ADE-AB55-354A7F1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6FD-3D3E-419A-9CA9-B7B85F3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D5E-8FF0-4ADE-8A2E-AF3C223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EAA-1338-42D1-9389-250B8D9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5D5-E9E3-4869-84C0-25BDEAA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823-80EE-45BF-A0F3-8B41336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CEB-3346-4B1C-BF97-9B69442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F0A-6F23-4695-8387-3029E90D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E18-6DFB-475F-A6C3-BF7C748A0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L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und der Rüsselstaubs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10080" y="4191120"/>
            <a:ext cx="2286000" cy="149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371600" y="3352680"/>
            <a:ext cx="228600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n und Rüsselstaubs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intstones-S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 ungestüme Fred ist der klassische Verlierer, der sich nie gegen seine Frau Wilma durchsetzen kan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3200400" y="2590920"/>
            <a:ext cx="2890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4220640"/>
            <a:ext cx="3810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arbeiten im Steinbruch von Mr.Schiefer (Mr.GeorgeSl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38680" y="4114800"/>
            <a:ext cx="228600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vollständigt wird die Familie Feuerste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und den Haushund D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Oliver Mochmann</cp:lastModifiedBy>
  <dcterms:modified xsi:type="dcterms:W3CDTF">2009-11-22T22:44:55Z</dcterms:modified>
  <cp:revision>13</cp:revision>
  <dc:subject/>
  <dc:title>PowerPoint-Präsentation</dc:title>
</cp:coreProperties>
</file>